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96BC-E75E-4AAC-BC86-BEDE5C1BF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0804-2D71-4355-A31E-F79A887A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968C-37EC-43AE-9B59-296042EE7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3E36-31C9-48B3-BABF-92FBFAD2D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A292-CFDE-4710-9855-709DA829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C2F3-7657-4C87-933B-9C9BA637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95A7-95AE-464E-8F7C-BAF799CB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2A8B-F973-4934-A611-08E86EA7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973B-3C07-43F1-BD8D-08374F8E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F67F-9765-4943-9988-3FD32B75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ECD3-4393-4B7B-AAD4-F42BA98E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E2F7-78D0-474B-8EB0-9EA86EE0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76B9-9806-46CF-9025-8A6A15EEE7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533520"/>
            <a:ext cx="8458200" cy="160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Fighting the Virus:hiv/aids in Africa</a:t>
            </a:r>
            <a:endParaRPr b="1" i="1" lang="en-US" sz="2400" spc="1" strike="noStrike">
              <a:ln w="0">
                <a:noFill/>
              </a:ln>
              <a:solidFill>
                <a:srgbClr val="33cc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880" y="2119320"/>
            <a:ext cx="579132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frica_pol01" descr=""/>
          <p:cNvPicPr/>
          <p:nvPr/>
        </p:nvPicPr>
        <p:blipFill>
          <a:blip r:embed="rId1"/>
          <a:stretch/>
        </p:blipFill>
        <p:spPr>
          <a:xfrm>
            <a:off x="2895480" y="133200"/>
            <a:ext cx="5910480" cy="6724800"/>
          </a:xfrm>
          <a:prstGeom prst="rect">
            <a:avLst/>
          </a:prstGeom>
          <a:ln w="0">
            <a:noFill/>
          </a:ln>
        </p:spPr>
      </p:pic>
      <p:pic>
        <p:nvPicPr>
          <p:cNvPr id="44" name="finallogo" descr=""/>
          <p:cNvPicPr/>
          <p:nvPr/>
        </p:nvPicPr>
        <p:blipFill>
          <a:blip r:embed="rId2"/>
          <a:stretch/>
        </p:blipFill>
        <p:spPr>
          <a:xfrm>
            <a:off x="0" y="380880"/>
            <a:ext cx="2549520" cy="1486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1905120"/>
            <a:ext cx="2971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Leading in by telling the students how serious the situation of HIV  is in  Af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ask 1  </a:t>
            </a:r>
            <a:r>
              <a:rPr b="0" lang="en-US" sz="5400" spc="-1" strike="noStrike">
                <a:solidFill>
                  <a:srgbClr val="cc0000"/>
                </a:solidFill>
                <a:latin typeface="Comic Sans MS"/>
              </a:rPr>
              <a:t>learn to compa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 a list of all the numbers and the related events compare the situation in Africa with that in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24382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3276720"/>
          <a:ext cx="9144000" cy="2862000"/>
        </p:xfrm>
        <a:graphic>
          <a:graphicData uri="http://schemas.openxmlformats.org/drawingml/2006/table">
            <a:tbl>
              <a:tblPr/>
              <a:tblGrid>
                <a:gridCol w="2316240"/>
                <a:gridCol w="6827760"/>
              </a:tblGrid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mill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million people were living with HIV or AIDS in 2002//27 million in sub-Saharan area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ill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illion were children//2 million children in Afric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304920" y="62164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We will show your diagram on the projec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43200" y="1523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uation in the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27432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uation in sub-Saharan Afr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38098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ildren suffer the m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49528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ood news and challen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59436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can be d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447920"/>
            <a:ext cx="220968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Para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Para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Para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Para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Para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45720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Task 2 paragraph id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99072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pare at least one question for each paragraph for your partn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30492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Comic Sans MS"/>
              </a:rPr>
              <a:t>Task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52578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60" name="U686P1T1D5080913F21DT20041201100717" descr=""/>
          <p:cNvPicPr/>
          <p:nvPr/>
        </p:nvPicPr>
        <p:blipFill>
          <a:blip r:embed="rId2"/>
          <a:stretch/>
        </p:blipFill>
        <p:spPr>
          <a:xfrm>
            <a:off x="3048120" y="2666880"/>
            <a:ext cx="5143320" cy="3178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09680" y="601992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Hu visits aids patients in the hos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8305920" y="6019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30492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Task 4 Language lear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523880"/>
            <a:ext cx="487692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ns of thousands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these numbers were to grow, the future of Africa might be in dan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lastslide"/>
          </p:cNvPr>
          <p:cNvSpPr/>
          <p:nvPr/>
        </p:nvSpPr>
        <p:spPr>
          <a:xfrm>
            <a:off x="7620120" y="6019920"/>
            <a:ext cx="1066680" cy="838080"/>
          </a:xfrm>
          <a:custGeom>
            <a:avLst/>
            <a:gdLst>
              <a:gd name="textAreaLeft" fmla="*/ 54000 w 1066680"/>
              <a:gd name="textAreaRight" fmla="*/ 1012680 w 1066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89" h="21600">
                <a:moveTo>
                  <a:pt x="0" y="0"/>
                </a:moveTo>
                <a:lnTo>
                  <a:pt x="27489" y="0"/>
                </a:lnTo>
                <a:lnTo>
                  <a:pt x="27489" y="21600"/>
                </a:lnTo>
                <a:lnTo>
                  <a:pt x="0" y="21600"/>
                </a:lnTo>
                <a:close/>
              </a:path>
              <a:path fill="lightenLess" w="27489" h="21600">
                <a:moveTo>
                  <a:pt x="0" y="0"/>
                </a:moveTo>
                <a:lnTo>
                  <a:pt x="27489" y="0"/>
                </a:lnTo>
                <a:lnTo>
                  <a:pt x="26089" y="1400"/>
                </a:lnTo>
                <a:lnTo>
                  <a:pt x="1400" y="1400"/>
                </a:lnTo>
                <a:close/>
              </a:path>
              <a:path fill="darken" w="27489" h="21600">
                <a:moveTo>
                  <a:pt x="27489" y="0"/>
                </a:moveTo>
                <a:lnTo>
                  <a:pt x="27489" y="21600"/>
                </a:lnTo>
                <a:lnTo>
                  <a:pt x="26089" y="20200"/>
                </a:lnTo>
                <a:lnTo>
                  <a:pt x="26089" y="1400"/>
                </a:lnTo>
                <a:close/>
              </a:path>
              <a:path fill="darkenLess" w="27489" h="21600">
                <a:moveTo>
                  <a:pt x="274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9" y="20200"/>
                </a:lnTo>
                <a:close/>
              </a:path>
              <a:path fill="lighten" w="274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9" h="21600">
                <a:moveTo>
                  <a:pt x="17244" y="10800"/>
                </a:moveTo>
                <a:lnTo>
                  <a:pt x="6738" y="17806"/>
                </a:lnTo>
                <a:lnTo>
                  <a:pt x="6738" y="3794"/>
                </a:lnTo>
                <a:close/>
              </a:path>
              <a:path fill="darken" w="27489" h="21600">
                <a:moveTo>
                  <a:pt x="19089" y="3794"/>
                </a:moveTo>
                <a:lnTo>
                  <a:pt x="19089" y="17806"/>
                </a:lnTo>
                <a:lnTo>
                  <a:pt x="20751" y="17806"/>
                </a:lnTo>
                <a:lnTo>
                  <a:pt x="20751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6019920" y="60199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9263" y="10800"/>
                </a:moveTo>
                <a:lnTo>
                  <a:pt x="19768" y="3794"/>
                </a:lnTo>
                <a:lnTo>
                  <a:pt x="19768" y="17806"/>
                </a:lnTo>
                <a:close/>
              </a:path>
              <a:path fill="darken" w="25523" h="21600">
                <a:moveTo>
                  <a:pt x="5755" y="3794"/>
                </a:moveTo>
                <a:lnTo>
                  <a:pt x="7417" y="3794"/>
                </a:lnTo>
                <a:lnTo>
                  <a:pt x="7417" y="17806"/>
                </a:lnTo>
                <a:lnTo>
                  <a:pt x="575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754380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 Care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. Keep the disease a secr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6. The good news is that it is still not too late to protect… against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7. The fight agains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8.victims of the dise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. It seams unlikely that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0. Hope for/in the hope of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previousslide"/>
          </p:cNvPr>
          <p:cNvSpPr/>
          <p:nvPr/>
        </p:nvSpPr>
        <p:spPr>
          <a:xfrm>
            <a:off x="78487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12095" y="10800"/>
                </a:moveTo>
                <a:lnTo>
                  <a:pt x="22600" y="3794"/>
                </a:lnTo>
                <a:lnTo>
                  <a:pt x="22600" y="17806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10250" y="3794"/>
                </a:lnTo>
                <a:lnTo>
                  <a:pt x="10250" y="17806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07:06:54Z</dcterms:created>
  <dc:creator>郭学宝</dc:creator>
  <dc:description/>
  <dc:language>en-US</dc:language>
  <cp:lastModifiedBy>郭学宝</cp:lastModifiedBy>
  <dcterms:modified xsi:type="dcterms:W3CDTF">2004-12-02T02:07:15Z</dcterms:modified>
  <cp:revision>16</cp:revision>
  <dc:subject/>
  <dc:title>PowerPoint 演示文稿</dc:title>
</cp:coreProperties>
</file>